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A24-9CE2-4F1C-B0B5-A1E6026B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D52-C4DC-4206-9512-3869970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824-7457-4D4D-8892-69CB0DD1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678-AD3C-44AF-9A61-52F0C306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82C-7FBB-4AF7-B974-587DA7A7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3C9-AC70-49B0-B385-C756B55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B19-9600-4865-8C1D-D491DCEA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FDD-7128-4AB6-80B0-5FC6F29F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07B-6F00-4356-AA6E-54EB65E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585-881C-453C-92D9-46ED520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72A-6004-4B64-9B12-63A51AD6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7C7-C2BE-4752-ABA4-CB6B581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7CF-FCD5-463C-A18C-0E07113B1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down 4 important facts about yourself &amp;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uggestions Include: things that have happened to them, information about their family, facts about their personality or their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require at least ONE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your parents said about how you were a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important about one of your parent's or grandparent'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dd 1 lie about yourself to the l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A 5 DIGIT NUMBER AT THE TOP OF YOUR PAPER. DO NOT TYPE YOUR NAME! THE NUMBER WILL ACT AS YOUR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**WE WILL BE SHAREING THESE WITH THE CLASS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-usr.rider.edu/~suler/lifefac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2666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issues we discuss about the exerci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pattern to the list of life fac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list say about onesel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people determine which item was the li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ie meaningful and revealing of one's persona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important MISSING from the li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52:16Z</dcterms:created>
  <dc:creator>ballen</dc:creator>
  <dc:description/>
  <dc:language>en-US</dc:language>
  <cp:lastModifiedBy>ballen</cp:lastModifiedBy>
  <dcterms:modified xsi:type="dcterms:W3CDTF">2008-09-24T15:25:08Z</dcterms:modified>
  <cp:revision>5</cp:revision>
  <dc:subject/>
  <dc:title>Slide 1</dc:title>
</cp:coreProperties>
</file>